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4.wmf" ContentType="image/x-wmf"/>
  <Override PartName="/ppt/media/image2.wmf" ContentType="image/x-wmf"/>
  <Override PartName="/ppt/media/drumroll.wav" ContentType="audio/x-wav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97E3-E731-49D1-9A36-DB5BC83E3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72E4-B1C6-4A80-9220-F8F99D479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0ED1-E4A1-4689-952E-AD03CA0D1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7FD8-E489-4AF5-9CCA-EB502B653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DA22-8B83-4564-AC32-FA6B19F56A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2AB5-E2B8-4A80-BDBF-14262EFB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61A4-90AB-4B7B-9520-5F65B3DF94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1A64-34EE-4770-A396-BA7ACBC3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90C4-E5E4-46F9-84A5-2E5789653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3DC-B2F0-45DE-8A52-4920D12BF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3B09-304C-4ADD-B834-E6474F6A0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BBC7-02A4-44B1-98A2-7A6C10562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CEE9-C7EC-4661-8276-94B0F14E48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BFEC-0E8A-4FED-A566-5DD073777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883B-91CE-4D4E-AF83-C9217574A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2ABD-BAD5-4B2E-8EB0-759BE8196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AB49-3AEC-48B1-ADED-6FF4E0BBF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7774-2B99-4A5C-94BF-1956D88B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87D-FC82-442E-81B6-E14D4BF9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B27-4AD8-49F3-AB21-08DD43D2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134-575E-41C6-884A-7E42A5D3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96E-B810-4B54-97BB-DEA56F4B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A07-D2BD-47E8-97CF-EB8C57F1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F7F-ADB5-4BD9-B75B-10D4A49B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874-FC06-4966-8876-D39D5A14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1FC-B18F-4ECA-8DEC-0171D56C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A50-9100-4956-96CC-E2B2687C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0A0-DEB5-4AFC-B515-AFD1A72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930-1D7C-4EB9-BE33-31964B30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C76-88A1-4A85-9FCE-9CFC197E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FAEF-D254-4D11-A2B5-450E1D834B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171720"/>
            <a:ext cx="8839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ff"/>
                </a:solidFill>
                <a:latin typeface="Trebuchet MS"/>
              </a:rPr>
              <a:t>Teacher-of-Literacy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5050"/>
                </a:solidFill>
                <a:latin typeface="Trebuchet MS"/>
              </a:rPr>
              <a:t>Direct and indirect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Literacy Key Skills -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iteracy logo"/>
          <p:cNvPicPr/>
          <p:nvPr/>
        </p:nvPicPr>
        <p:blipFill>
          <a:blip r:embed="rId1"/>
          <a:stretch/>
        </p:blipFill>
        <p:spPr>
          <a:xfrm>
            <a:off x="6407280" y="1773360"/>
            <a:ext cx="26287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6408720" y="263700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www.Teacher-of-Literac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C900297565[1]"/>
          <p:cNvPicPr/>
          <p:nvPr/>
        </p:nvPicPr>
        <p:blipFill>
          <a:blip r:embed="rId2"/>
          <a:stretch/>
        </p:blipFill>
        <p:spPr>
          <a:xfrm>
            <a:off x="1908000" y="2421000"/>
            <a:ext cx="5040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1295280" y="762120"/>
            <a:ext cx="6400800" cy="4114800"/>
          </a:xfrm>
          <a:prstGeom prst="wedgeRoundRectCallout">
            <a:avLst>
              <a:gd name="adj1" fmla="val -3199"/>
              <a:gd name="adj2" fmla="val 78509"/>
              <a:gd name="adj3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2514600" y="1066680"/>
            <a:ext cx="4562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and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In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Speec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Reporting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1400" y="1599840"/>
            <a:ext cx="685800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 are two ways of reporting what somebody s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 spe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rect (or reported)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629400" y="335268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900365708[1]"/>
          <p:cNvPicPr/>
          <p:nvPr/>
        </p:nvPicPr>
        <p:blipFill>
          <a:blip r:embed="rId1"/>
          <a:stretch/>
        </p:blipFill>
        <p:spPr>
          <a:xfrm>
            <a:off x="6443640" y="4413240"/>
            <a:ext cx="2471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 flipH="1">
            <a:off x="380160" y="2209680"/>
            <a:ext cx="3886200" cy="2895840"/>
          </a:xfrm>
          <a:prstGeom prst="wedgeEllipseCallout">
            <a:avLst>
              <a:gd name="adj1" fmla="val -40893"/>
              <a:gd name="adj2" fmla="val 89856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38080" y="297180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direct speech we use the speaker’s ow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343400" cy="402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572000" y="2590920"/>
            <a:ext cx="1905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ext we put speech marks around the words spok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858000" y="2590920"/>
            <a:ext cx="1676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ech marks are also called inverted com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In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indirect speech (sometimes called reported speech) we do not use the exact words of the spe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we report what was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ometimes need to change pronouns and verb tenses. We don’t use speech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50920" y="5229360"/>
            <a:ext cx="3124080" cy="1218960"/>
          </a:xfrm>
          <a:prstGeom prst="wedgeEllipseCallout">
            <a:avLst>
              <a:gd name="adj1" fmla="val 33282"/>
              <a:gd name="adj2" fmla="val 47398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 am going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581280" y="53341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len said she was going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Punctuating Direct Spee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using direct speech in your writing you need to use the correct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xact words spoken must be enclosed in speech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rst word of the speech must begin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ords in the speech marks must be separated from the rest of the sentence by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use a new line when a new speaker begins to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Using Speech in Your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speech in fiction and non-fiction writing adds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writing out long pieces of direct speech can make your writing confusing. It also slows down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can summarise what the speaker has said so that the action moves along more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is useful when you want a contrast between what a character says and what he or she is thinking. (e.g. Lady Macbe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dvantages and disadvantages of each type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show what a character is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speeches can be bo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 many speakers can confuse the re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add variety to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speech can be summarised briefly so that it does not slow down the pace of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an show a contrast between what a character is saying and what he or she is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your writing use mainly reported speech. Use direct speech only to emphasise the main points your characters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bore and confuse your readers by writing out long conversations between your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should be used sparing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most effective when only the most forceful statements are put into direct spe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3:52:34Z</dcterms:created>
  <dc:creator>Martin</dc:creator>
  <dc:description/>
  <dc:language>en-US</dc:language>
  <cp:lastModifiedBy>MNugent</cp:lastModifiedBy>
  <dcterms:modified xsi:type="dcterms:W3CDTF">2013-02-23T14:41:37Z</dcterms:modified>
  <cp:revision>2</cp:revision>
  <dc:subject/>
  <dc:title>Slide 1</dc:title>
</cp:coreProperties>
</file>